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4F9-121D-4A42-9389-5029BF54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B51-38B4-436B-ACA0-6CCFA0B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91A-50E9-4BEC-B0B0-1DDCF576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A91-5359-416C-934C-CD584CF3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05A-F2AA-4AD9-83D9-E997DF4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4AB-C06F-4818-8B20-2D4A2ED5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E5C-90B5-455D-B9F0-C0CBFD6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C58-0A31-4BDC-A369-5036C99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EF5-1E56-4E31-A758-7A6E3FE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3C9-DBA5-4E10-ABBA-5807B71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6D7-9E42-4667-85DD-486279E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C28-0870-41E6-AC65-5ADF79A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F85-482B-48E3-A399-7FCEAB44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fical member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old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young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Cit.iz.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90468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77320" y="3733920"/>
            <a:ext cx="7254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182700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638680" y="1905120"/>
            <a:ext cx="20988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log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sk for give 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 pol a g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7T16:50:06Z</dcterms:modified>
  <cp:revision>2</cp:revision>
  <dc:subject/>
  <dc:title>PowerPoint Presentation</dc:title>
</cp:coreProperties>
</file>